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4856-CA5E-4209-8E28-636BDE98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613B-2A99-4E15-B5D4-4D6EC179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80FE-5DD1-43E4-8AF7-86E4E0B8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011A-3937-42EE-8A7E-3A260580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AA0D-39B9-4561-B428-CD35D45D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EAD9-3160-441F-9D5E-CF47AD3B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5A18-6C2F-42C5-93ED-CC8E4611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CD6F-8617-4CF9-A8AA-FE45FF85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01A1-23AA-4CB5-9641-07042C00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A8B5-1F92-495D-9172-53CC9808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3AF5-58B3-4324-AA89-6EAF2641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44E3-BF9B-4135-B9B2-4335986A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1F3C-74DA-4662-9229-17572E32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0ACB-6F57-4104-9443-CDDBA608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7699-ACD6-4858-9008-05988F6F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F755-7652-40F7-B931-5156CC68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3D41-0D32-4544-BB7D-F579A2EEB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CF7A0-7460-4EA9-AE96-A82A6C36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7EEF5-4102-47CA-BFBD-6F8635ED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DFB1B-3107-44C5-9A08-C96195EB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7E4C3-AA4E-470E-8811-25A1CE55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D67B4-924A-4392-8770-522FAD73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C669-958F-4C68-A4FA-C260BFF5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8B8BA-8586-4689-9AF1-473531DF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FEEDE-15EE-4B04-ABB0-84A4B3BB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64953-38D1-47D7-A95E-6655FB81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3C521-0014-4387-8AFF-6970A0C1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14F3D-95D4-4448-BB91-9267C0D5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5399C-0DFF-44CB-8C4D-2A24112CD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908D4-B785-4642-A482-89A64D5D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A5DD4-FF6A-4617-9700-E11A17B97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BEC13-E3FB-442F-A24D-A13981D2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E6F6C-F601-4F09-8AD0-7841FDE4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9220-817A-413C-9B89-E9B24FB7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A8ECB-5CBD-4CE0-A222-8D415094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0E8E9-01EA-49B7-A5A9-4EAAF718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96FAA-3959-48AE-963B-3D2146DB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1591A-C887-4369-A790-FD266B0C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D8F34-DEFB-4AB9-A47F-7FA281F9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D38BE-1A8B-46FE-8DC1-F455FD65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5BBD8-7B00-4204-AC16-ADDC097B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C2272-61A7-4E06-AE31-67085E751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C1D80-2E9D-4C4F-9AF2-1EFD971B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1CCB7-9407-45C4-BBD1-11E51C5FC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3266-A11B-4AB5-935D-18FEF28C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C0FD8-F6CB-45D8-BFA3-BC291AA4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F1955-F007-4D26-89CE-4E4688ED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A04F6-EF02-4701-827F-BCAB5DE8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9C6D6-EC83-452B-93B2-F7D1D5D9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28A13-20A3-49A3-ABE7-5FE951C4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6FAC1-DD63-48A0-A72F-3F77F4C2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1C8BD-80AA-41F7-9968-C9197B73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B6806-E6E1-426A-B43D-1E5FE553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D0275-0A6C-4DEC-9F5C-A8F55036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03849-9C68-466D-BBC4-FD05C423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70B1-A26C-4A46-BFD8-D14ADA29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77783-8358-42AC-927F-0DBE78BA0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1978-7B81-4D0E-B855-7ECA7949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3B57-831F-4CF0-8729-36EFBB71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0C06-DCCD-4B7B-AD10-A0F6A80B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201D-B2A5-4234-92E4-0E0663368CB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8FAF-3D85-4F9D-B625-6683EEF0BFF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7B23-1893-4AF4-AE00-37DE443B92B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940B-FADA-4443-A100-6367878F4E2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D37C-4F2E-4F69-B1AD-39294BD592D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An Action Research Projec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Chevonne Bya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EDUC 7021 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Fall 2010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53352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Overeating and Underachieving:</a:t>
            </a:r>
            <a:br>
              <a:rPr sz="32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0" y="2133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 Effects of Physical Fitness on the Academic Achievement of Minority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able of Conten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bstrac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tatement of Proble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view of Related Literat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tatement of the Hypothesi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etho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articipant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strumen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ferences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ntroduc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2949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ne in every three American child is obese or overweight.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(Ogden&amp; Carroll 2010)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United States government invests millions of dollars a year into addressing childhood obesity.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(U.S. Department of Health and Human Servic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hildren who suffer from obesity have several health risk includ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igh blood pressure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igh cholesterol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ype 2 diabete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leep apne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epression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nd more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(Taras &amp;Potts-Datema 2005; Wittberg et al 2009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besity disproportionately affects minority populations.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(Ogden &amp; Carroll, 2010; U.S. Department of Health and Human Servic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ntroduction (Continued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14475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en compared to other countries the U.S. students are mediocre.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(U.S. Department of Education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education system has an achievement ga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at is minority students do not perform as well as other student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Burton, L.J., &amp; VanHeest,J.L.;2008, James B Hunt, Jr. Institute for Educational Leadership and Policy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oor grades can be detriment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ow self esteem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(James B. Hunt Jr. Institute for Educational Leadership and Policy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epression (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Herman et al, 2008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ehavioral problems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(Johnson et al, 2005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nd mo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atement of the Proble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hysical education classes are being eliminated in the hopes of improving grades (Chomitz et al 2009,Taras &amp; Potts-Datema 2005, Wittberg et al 2010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espite the fact that studies suggest exercise improves cognitive ability.(Chomitz et al 2009,Ellemberg et al, 2010;Hillman et al, 2009; Tomporowski et al, 2008; 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s could be detrimental to both academic achievement and physical health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s is particularly concerning when it comes to minority students, as they are typically are risk for both obesity and lower grade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 (U.S. Department of Health and Human Service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655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view of Related Literatur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52280" y="685440"/>
            <a:ext cx="51055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09040" indent="-21240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tudies have shown a positive relationship between physical activity and cognitive abilit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64640" indent="-2124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tudents perform higher on cognitive test taken immediately following aerobic exercise. (Boyle-Holmes et al 2010; Ellemberg et al, 2010;Hillman et al, 2009;Pesce et al, 2009; Tomporowski et al, 2008; 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tudies have shown a positive relationship between fitness and academic achievemen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64640" indent="-2124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at it the more physically fit a student is the higher they score on standardized exams.(Burton et al 2007; Castelli et al 2007;Grissom 2005;Taras et al 2005; Wittberg et al 2009; Wittberg et al 2010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933800" y="685800"/>
            <a:ext cx="4057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2860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tudies are unable to show causality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(Chomitz et al. 2009; Tomporowski et al, 2008; Wittberg et al 2010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re are a limited amount of studies with large samples of minority students. (Wittberg, et al. 2010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Franklin Gothic Book"/>
              </a:rPr>
              <a:t>Hypothe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492480" indent="-2055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30 minutes of aerobic exercise will raise the scores of low income, minority first grade students in math and reading on the Terra Nova exam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92480" indent="-20556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Franklin Gothic Book"/>
              </a:rPr>
              <a:t> </a:t>
            </a:r>
            <a:r>
              <a:rPr b="0" lang="en-US" sz="4000" spc="-1" strike="noStrike">
                <a:solidFill>
                  <a:srgbClr val="7f7f7f"/>
                </a:solidFill>
                <a:latin typeface="Franklin Gothic Book"/>
              </a:rPr>
              <a:t>References</a:t>
            </a:r>
            <a:r>
              <a:rPr b="0" lang="en-US" sz="4000" spc="-1" strike="noStrike">
                <a:solidFill>
                  <a:srgbClr val="7f7f7f"/>
                </a:solidFill>
                <a:latin typeface="Perpet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Burton, L.J., &amp; VanHeest, J.L. (2007). The importance of physical activity in closing the achievement gap. Quest, 59, 212-218.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Boyle-Holmes, T, Grost, L, Russell, L, Laris, B.A., &amp; Robin, L., Haller E., Potter S., Lee S. (2010). Promoting elementary physical education results of a school-based evaluation study.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Health Education &amp; Behavior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37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(3), 377-389.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Castelli, D.M., Hillman, C.H., Buck S.M. &amp; Erwin, H.E. (2007). Physical fitness and academic achievement in third and fifth grade students.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Journal of Sport Exercise Psychology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29, 239-252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Childhood obesity and academic outcome. (2008).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James B. Hunt, Jr. Institute for Educational leadership and Policy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Chomitz, V.R., Slining, M.M., McGowan, R.J., Mitchell, S.E., Dawson, G.F. &amp; Hacker K.A. (2009). Is there a relationship between physical fitness and academic achievement? positive results from public school children in teh bortheastern united states.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Journal of School Health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79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(1), 30-37.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Ellemberg, D., &amp; St-Louis-Deschenes, M. (2010). The effect of acute physical exercise on cognitive function during development.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Psychology of Sport and Exercise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, 122-126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Grissom, J.B. (2005). Physical fitness an academic achievement.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Journal of Exercise Physiology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(1)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Herman, K.C., La,bert, S.F., Reinke, W.M., &amp; Ialongo, N.S. (2008). Academic competence in first grade as a risk factor for depressive cogitations and symptoms in middle school.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Journal of Counseling Psyhchology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55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(3), 400-410.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492480" indent="-2055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492480" indent="-2055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References (continued) 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Hillman, C.H., Pontifex, M.B., Raine, L.B., Castelli, D.M., Hall, E.E &amp; Kramer A.F. (2009). The effect of acute treadmill walking on cognitive control and academic achievement in preadolescent children .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Neuroscience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159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, 1044-1054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Johnson, W., McGue, M., &amp; Iacono, W.G. (2005). disruptive behavior and school grades: genetic and environmental relations in 11-year-olds.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Journal of Educational Psychology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97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(3), 391–405.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Ogden, C., &amp; Carroll, M&gt;. Centers for Deisease and Control Prevention, Division of Health and Nutrition Examination Surveys. (2010).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Prevalence of obesity among children and adolescents: united states, trends 1963–1965 through 2007–2008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. Washington, DC: Retrieved from http://www.cdc.gov/nchs/data/hestat/obesity_child_07_08/obesity_child_07_08.htm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Pesce, C., Croca, C., Cereatti, L., &amp; Bellucci, M. (2009). Physical activity and mental performance in preadolescents: effects of acute exercise on free-recall memory.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Mental Health and Physical Activity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2, 16-22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Taras, H., &amp; Potts-Datema, W. (2005). Obesity and student performance at school.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Journal of School Health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75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(8), 291-295.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Tomporowski, P.D., Dacis, C.L., Miller, P.H. , &amp; Naglieri, J.A. (2008). Exercise and children’s intelligence, cognition, and academic achievement.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Education Psychol Rev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, 111-131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Wittberg, R., Cottrel, L.A., Davis, C.L., &amp; Northrup, K.L. (2010). Aerobic fitness thresholds associated with fifth grade academicachievement.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American Journal of Health Education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41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(5), 284-291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Wittberg, R., Northrup, K., &amp; Cottrel, L. (2009). Children's physical fitness and academic performance.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American Journal of Health Education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2009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(40), 1.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U.S. Department of Health and Human Services, Assistant Secretary for Planning and Evaluation. (n.d.).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Childhood obesity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Washington, DC: Retrieved from http://aspe.hhs.gov/health/reports/child_obesity/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U.S. Department of Education, Institute of Education Services. (2009).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Special analysis 2009 international assessments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. Washington, DC: Retrieved from http://nces.ed.gov/programs/coe/2009/analysis/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23:13:15Z</dcterms:created>
  <dc:creator>circ</dc:creator>
  <dc:description/>
  <dc:language>en-US</dc:language>
  <cp:lastModifiedBy>Robotron</cp:lastModifiedBy>
  <dcterms:modified xsi:type="dcterms:W3CDTF">2010-10-19T19:23:12Z</dcterms:modified>
  <cp:revision>170</cp:revision>
  <dc:subject/>
  <dc:title>Overeating and Underachieving: </dc:title>
</cp:coreProperties>
</file>